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49E-CB6D-441A-AA39-30B27FA3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660-B4D0-4319-8DB8-FF9D7026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13B7D-CE62-434D-B465-2C0AC1E9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62127-19B1-49D3-80BC-43A15915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E6A7C-5D67-452A-9509-582B25D3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08C36-B08A-408D-B0D9-C157902F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17BDD-0ABB-4F4C-9692-FF0E699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5EF15-C58E-4F6E-9B5A-41BB5441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734C1-F86D-4A1B-9642-1221BDD8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2BE2C-79D2-4BCF-8B33-2D44E11D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0CA53-861C-420B-8391-F0C8BC10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CFE28-3E3A-453E-885C-FA1B70B2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788-AF3B-40AA-A641-12D55E4D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0003F-97AB-402D-AB84-34596937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B72E0-192B-4A51-AE2A-55DEB7E3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948F2-6024-428D-87AC-20FECFD4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C3569-EDBD-40F3-B28B-7FD2863A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5821F-2F93-45E3-A028-55F1E7DA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5BFB4-C944-4B09-BBBE-1390FA23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3DB59-5DB4-4949-BCB3-1C90BB9A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A9247-DEAB-4EC1-BA50-B9D548E7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08224-C22C-4F66-94A1-DD334B45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005D3-2348-481C-B1EB-8E31F14B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EBC-6BD3-43C2-B39B-6AC8C54C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B92CE-AB95-4BAD-9387-2DFB81CE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AFCD4-4FC7-4C01-A840-255F7DE6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CC43E-8F75-441C-95FC-79AAA927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392B7-9424-4393-BE73-871BAB61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4B995-EB15-41E9-8FAE-F24D9776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DB499-3DF3-4D97-A2B9-BF719144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19BE6-FFB7-43F3-A77F-01308850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CD0D8-4C87-488F-9BB2-131889E0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D8778-6D24-4491-8E04-7544D657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D896F-A4E9-43DE-8737-422D9CBE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9777-90EB-4823-B9CB-8C5D40D9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4FE99-95C6-4B22-8AD3-E0A46F98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53FE3-11ED-4786-B5C8-74E06FF3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9C090-B163-434E-BFC1-7A3DDB4B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4D90A-8D80-42A3-8327-6143BA18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9B98D-113E-4CE6-A38B-A24DC8A4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7AAB1-7B29-46AE-A449-1263D094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7847C-48BE-4F1F-A7CE-4C8912AB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0DB7D-48C5-430D-A0DD-188F0418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4D8E6-CE59-4FBE-9C37-A9475ADE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59D2E-A420-42DE-8B82-54E48BA2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4926-52DE-4F06-816F-0D63F9A6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47593-6309-456D-BBCA-4642F11A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A8861-3D35-4C78-9BB2-23CE2DD2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28B48-F584-4648-8CBF-6C1B86B8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632DF-47F0-436B-A73F-32D2F0A5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B57E7-73B0-4E89-B12D-F4E30D18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C289-A292-45A2-BD6D-6B5AAFCA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00CA-07CC-46C3-AD8B-47FF9A2E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3233-366B-40A4-8D82-1A6A036D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5548-C782-4605-A257-679569F0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51AC-3515-418C-98BF-E061DB1F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D6C-F671-4B7A-8219-155E0143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1B04-AEB2-42E7-9DD6-BBF2A8A7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336E-9CE1-4936-AA44-9C005D3B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188B-E75E-423D-9388-CD500FB5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007E-67DC-4C3F-881F-08FA135A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B7BB-4CCB-4483-B5BC-E89D1B2B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F414-5A14-4729-9348-6E9D64F0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CC9D2-C57B-467B-8D9B-AB0A9098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10BE2-40A6-4BB9-BED1-996F8426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747C7-585E-41B5-999B-9387E7F3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688C-94EE-422E-9408-96B4430C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747-C490-4E24-8F85-CC96E8C7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0BA10-690E-4ABE-AE1F-CA655663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3D34-CAE6-427C-8649-0F538C8A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F2171-1124-4B3E-ABFE-A4FF5A49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3304-CB6B-46A0-8D8D-16849250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48EBA-E095-4676-9C9A-6559B4EE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4FE4-8C26-44F9-A9A8-30DF10ED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C39B-3D27-4A8B-B162-F8BC6434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E3B4-6644-467B-A036-4C2A8521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9299E-7C8B-40FE-88E6-A543E7F8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B37F6-F3ED-4481-A6A3-C41430AB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BF5-8364-4191-9FCB-67310C09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6BD0-E5DF-4EB3-B03F-1D10D3C2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5ED3-76EE-411C-948C-BB36E012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DEC8-8807-40BC-A1A5-925337C7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4E53-C6F8-43D1-ABDC-B2AEF950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5108F-0511-4170-8E19-4B05834F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6C67-0A67-41F1-86DD-1B5B9E27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5836-83C2-4109-9B53-2EE12908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D7C5E-6181-449B-91A3-BBC7DD63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5A7B5-DA1E-4E85-80C7-C0ECC957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E8544-8A02-4381-A567-97B24982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B4A-4D13-4C7D-9024-A1F45E8B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147DB-AC75-43FB-96C2-643D29F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1D290-9DE0-45F9-85E5-BB4D85D0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7ACA2-4450-4E57-BF92-5BF5D415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CD1F0-F08E-4538-9D88-F5349E8F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E478-E7C9-4855-9807-8C4C7D9E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34707-5880-49DF-8FB7-9CFB7027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0BE55-9E74-41AF-B63E-BEDB65D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F440A-E34A-4EC5-9CF4-68224414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BC9F8-EC40-495D-8B43-DD424818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45223-7A87-4C08-8D7F-03B04F77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5CE-45FD-4AF8-B082-4B43F261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C1A4F-5578-43A4-8DE3-8AA28E31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17EC0-EB72-48D0-9167-29ADE589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00AEC-AF84-4EDD-B835-49571243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0C822-4FE6-4CA9-A5C9-BEC90103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7F8A0-58A4-44BB-8E98-EB75E968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F3330-22DE-435E-9C9F-7A50970A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5ED67-004B-415B-A3D4-582DFA37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BD9A5-A5F2-44A5-81DE-75D4F95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EC9C4-E319-48B6-AD0B-E1BB01DD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4D8EE-69EC-4037-AEF9-50244EE8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C7E-702E-4F06-9D1A-DB4F5E84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B4469-8BA6-425C-A586-29E925A4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DE98B-C47A-4CE0-B248-3A363760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E31D8-1939-44A8-819C-E0AB1410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289A8-7D6B-4228-AD30-BE422DD7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B911A-F07D-4037-BAB7-AAFA0F40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FF0B8-18B5-4F08-B345-1ACA1DAE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F8824-963B-44C4-8E00-91CBAEAF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B5874-F135-473A-A415-F96A870A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41F2C-66EA-44C0-A663-722C051B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62E11-3431-43F6-A86D-941AE6CB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D17-135E-4646-82CE-A8C089E1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9EC36-E1DA-45A4-B4C5-2C477526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2C4D9-DA05-4956-99B0-4A48E762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DC7E0-C03E-463E-B7B8-0A102CC4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46F37-B563-4EDD-9CFB-961945D8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6DD93-D8BB-44D7-B409-E8AAB4B4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51184-A29D-4A6C-AC88-C77EFEC2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F3A76-8DEA-473D-84CF-EA58404B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63B80-E0E1-4DF7-BFF3-E825FDD5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4288F-3D85-4285-A8B4-B16C122F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A6F3A-9610-4437-B660-09CA9F5C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8C9-7D0E-4242-A947-B2F34A0E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F2E8F-2A32-4456-8DFC-A76B683C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B391D-3138-4F27-AD14-E5C0DF17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6EEDE-A2EB-4F93-802B-D9CFEA79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08DC4-7AFF-4CF4-B313-B93626A2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3334D-28E2-46F0-8424-1E88D243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3EA3C-28ED-4AC7-B5FB-3FA4165A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99A54-4FE5-42DA-90BA-FA84009B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413F3-4723-41BA-AE52-2D5906BF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6F11E-186E-4B34-A69C-306C279D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98CB9-974C-4648-B46D-72EEBADC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62F0-9F79-4C4B-BF5F-D64D2E2494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8F34-743D-4D27-9575-C480B665CB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0A6B-A0A7-47CA-B976-9233CDBBD9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9D74-6FBA-4072-AC15-F82DE650F2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9CBD-1C07-46C4-A6E6-B561FE7508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7F06-0472-4114-AD0A-401B96E019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B42F-431B-4379-A41F-C2C03DB3CB4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5BC6-C385-45C1-B9EF-02B1B21337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75CD-F5C9-470E-9A9F-4C7B666109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1204-7C84-4547-AF39-92AF3FBE65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33B3-AB9C-4D8D-A573-B2B12C9845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E904-2096-4622-A797-C63E97EB09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84 K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a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a milo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z n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iež sa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žia milosť z n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Ježišovi skláňa k 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iež Duch Svätý ráči zmen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še srdcia na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u Krista môžeme náj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dosť, pokoj v každý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iež sme preto ochotní í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am Duch Svätý vedie ná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03:27Z</dcterms:modified>
  <cp:revision>23</cp:revision>
  <dc:subject/>
  <dc:title>Je veľký náš Pán, on slávy je Kráľ Nech do všetkých strán  spev vrúcnych znie chvál.</dc:title>
</cp:coreProperties>
</file>